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9709-E917-4EA5-8D35-D2D304E02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of the Trai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rse Overvie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perate in CUNYfirst Financials a basic understanding of the applications design and structure is ess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course will introdu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oncepts &amp; Terminology within the applica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 of Sea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ic Search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search utilizing the ‘begins with’ operat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tial search can be do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various types of ope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ced Sear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narrow a search dow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an ‘Include History’ or ‘Correct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Search pages contain the Case Sensitive Check box to enable you to perform case-sensitive sea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 UPK – Understanding Search Pag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RCISE #4)</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RCISE #4A)</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arch related buttons that appear on search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 – to initiate the search process on selected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 Clears the search criteria inputted by the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ing Search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nducting an advanced search users can click the Save Search Criteria link to name and save the specified 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ing the search allows the user to use the specified search record on other search p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ctionality allows the user to save searches that can be used on other pages without completing the search process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 UPK – Understanding Search Pages/Saved Search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RCISE #5)</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COURSE IS COMPLET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ve (5) Specific Chapters will be covered in this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ssing CUNYfir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ins how to access the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in Menu Struc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s gain familiarity and appearance of the links that remain static throughout the application.  These are items that do not change from page to p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ge Navig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s gain familiarity with items within the application, such a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t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eating &amp; Maintaining Favori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s the user the ability to store frequently used pag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standing CUNYfirst Search P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ows user to locate existing data in the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based applic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will be accessible through a Portal pag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ortal page is not currently defin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user has a unique User I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with duplicate First Initial and Last Nam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 Thomas Rain  User ID = TRAIN1</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  Tina Rain       User ID = TRAIN2</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wor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passwords should be easy for the user to remember but hard for someone else to figure ou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a Password – User must wait 5 days before it is changed aga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 Restrictions – Passwords </a:t>
            </a:r>
            <a:r>
              <a:rPr b="1" lang="en-US" sz="1200" spc="-1" strike="noStrike">
                <a:solidFill>
                  <a:srgbClr val="000000"/>
                </a:solidFill>
                <a:latin typeface="Arial"/>
              </a:rPr>
              <a:t>CANNOT:</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e the same as the User I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e one of the four (4) previously used passwords</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 UPK – Accessing CUNYfirst &amp; Logging in with User ID &amp; Password)</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RCISE #1)</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area we will discuss is the CUNYfirst Main Menu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encom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Navigation Head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nu Navig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Ledger Ce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in Menu Navigation:</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ains a hierarchy of folders and is the primary means of navigating within the CUNYfirst application.</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ain menu appears in the left-hand side of the application.  Users access folders by navigating through the menu.</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user will navigation through the application by utilizing navigation tools.  These tools are:</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olbar Button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cess Button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mpt and Validation Buttons./Links</a:t>
            </a:r>
            <a:endParaRPr b="0" lang="en-US" sz="900" spc="-1" strike="noStrike">
              <a:solidFill>
                <a:srgbClr val="000000"/>
              </a:solidFill>
              <a:latin typeface="Arial"/>
            </a:endParaRPr>
          </a:p>
          <a:p>
            <a:pPr lvl="1" marL="45720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user should also know how to navigate within CUNYfirst using Keyboard Shortcuts.  These keys are used to avoid moving your hand from the keyboard to use the mouse.</a:t>
            </a:r>
            <a:endParaRPr b="0" lang="en-US" sz="9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wo types are: Hot Keys &amp; Access Key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eneral Ledger Center:</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General Ledger is a component with the General Ledger Folde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ccessed through the main menu</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e stop experience for the GL use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ach Category in the GL Center is displayed</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AUNCH UPK – Main Menu Structure)</a:t>
            </a:r>
            <a:endParaRPr b="0" lang="en-US" sz="8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ERCISE #2)</a:t>
            </a:r>
            <a:endParaRPr b="0" lang="en-US" sz="8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ERCISE #2A)</a:t>
            </a:r>
            <a:endParaRPr b="0" lang="en-US" sz="8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al Navigation Head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area of the application will never change.  It remains the </a:t>
            </a:r>
            <a:r>
              <a:rPr b="0" lang="en-US" sz="1200" spc="-1" strike="noStrike">
                <a:solidFill>
                  <a:srgbClr val="000000"/>
                </a:solidFill>
                <a:latin typeface="Arial"/>
              </a:rPr>
              <a:t>	</a:t>
            </a:r>
            <a:r>
              <a:rPr b="0" lang="en-US" sz="1200" spc="-1" strike="noStrike">
                <a:solidFill>
                  <a:srgbClr val="000000"/>
                </a:solidFill>
                <a:latin typeface="Arial"/>
              </a:rPr>
              <a:t>same no matter where you navigate in the syst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s 4 key navigation functions in the syst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Home</a:t>
            </a:r>
            <a:r>
              <a:rPr b="0" lang="en-US" sz="1200" spc="-1" strike="noStrike">
                <a:solidFill>
                  <a:srgbClr val="000000"/>
                </a:solidFill>
                <a:latin typeface="Arial"/>
              </a:rPr>
              <a:t> – Returns the user to the main menu pa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Worklist</a:t>
            </a:r>
            <a:r>
              <a:rPr b="0" lang="en-US" sz="1200" spc="-1" strike="noStrike">
                <a:solidFill>
                  <a:srgbClr val="000000"/>
                </a:solidFill>
                <a:latin typeface="Arial"/>
              </a:rPr>
              <a:t> – Provides summary information on a users personal </a:t>
            </a:r>
            <a:r>
              <a:rPr b="0" lang="en-US" sz="1200" spc="-1" strike="noStrike">
                <a:solidFill>
                  <a:srgbClr val="000000"/>
                </a:solidFill>
                <a:latin typeface="Arial"/>
              </a:rPr>
              <a:t>	</a:t>
            </a:r>
            <a:r>
              <a:rPr b="0" lang="en-US" sz="1200" spc="-1" strike="noStrike">
                <a:solidFill>
                  <a:srgbClr val="000000"/>
                </a:solidFill>
                <a:latin typeface="Arial"/>
              </a:rPr>
              <a:t>workli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r>
              <a:rPr b="0" lang="en-US" sz="1200" spc="-1" strike="noStrike">
                <a:solidFill>
                  <a:srgbClr val="000000"/>
                </a:solidFill>
                <a:latin typeface="Arial"/>
              </a:rPr>
              <a:t>: If a journal that needs to be approved by a specific user will appear on that users workli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Add to Favorites</a:t>
            </a:r>
            <a:r>
              <a:rPr b="0" lang="en-US" sz="1200" spc="-1" strike="noStrike">
                <a:solidFill>
                  <a:srgbClr val="000000"/>
                </a:solidFill>
                <a:latin typeface="Arial"/>
              </a:rPr>
              <a:t> – Allows user to create a folder in CUNYfirst of </a:t>
            </a:r>
            <a:r>
              <a:rPr b="0" lang="en-US" sz="1200" spc="-1" strike="noStrike">
                <a:solidFill>
                  <a:srgbClr val="000000"/>
                </a:solidFill>
                <a:latin typeface="Arial"/>
              </a:rPr>
              <a:t>	</a:t>
            </a:r>
            <a:r>
              <a:rPr b="0" lang="en-US" sz="1200" spc="-1" strike="noStrike">
                <a:solidFill>
                  <a:srgbClr val="000000"/>
                </a:solidFill>
                <a:latin typeface="Arial"/>
              </a:rPr>
              <a:t>frequently visited components.  A component is the CUNYfirst </a:t>
            </a:r>
            <a:r>
              <a:rPr b="0" lang="en-US" sz="1200" spc="-1" strike="noStrike">
                <a:solidFill>
                  <a:srgbClr val="000000"/>
                </a:solidFill>
                <a:latin typeface="Arial"/>
              </a:rPr>
              <a:t>	</a:t>
            </a:r>
            <a:r>
              <a:rPr b="0" lang="en-US" sz="1200" spc="-1" strike="noStrike">
                <a:solidFill>
                  <a:srgbClr val="000000"/>
                </a:solidFill>
                <a:latin typeface="Arial"/>
              </a:rPr>
              <a:t>system is a page or group of related pages pertaining to a </a:t>
            </a:r>
            <a:r>
              <a:rPr b="0" lang="en-US" sz="1200" spc="-1" strike="noStrike">
                <a:solidFill>
                  <a:srgbClr val="000000"/>
                </a:solidFill>
                <a:latin typeface="Arial"/>
              </a:rPr>
              <a:t>	</a:t>
            </a:r>
            <a:r>
              <a:rPr b="0" lang="en-US" sz="1200" spc="-1" strike="noStrike">
                <a:solidFill>
                  <a:srgbClr val="000000"/>
                </a:solidFill>
                <a:latin typeface="Arial"/>
              </a:rPr>
              <a:t>specific task.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ign out –</a:t>
            </a:r>
            <a:r>
              <a:rPr b="0" lang="en-US" sz="1200" spc="-1" strike="noStrike">
                <a:solidFill>
                  <a:srgbClr val="000000"/>
                </a:solidFill>
                <a:latin typeface="Arial"/>
              </a:rPr>
              <a:t> Signing out sends the user out of the application and </a:t>
            </a:r>
            <a:r>
              <a:rPr b="0" lang="en-US" sz="1200" spc="-1" strike="noStrike">
                <a:solidFill>
                  <a:srgbClr val="000000"/>
                </a:solidFill>
                <a:latin typeface="Arial"/>
              </a:rPr>
              <a:t>	</a:t>
            </a:r>
            <a:r>
              <a:rPr b="0" lang="en-US" sz="1200" spc="-1" strike="noStrike">
                <a:solidFill>
                  <a:srgbClr val="000000"/>
                </a:solidFill>
                <a:latin typeface="Arial"/>
              </a:rPr>
              <a:t>returns them to the </a:t>
            </a:r>
            <a:r>
              <a:rPr b="1" lang="en-US" sz="1200" spc="-1" strike="noStrike">
                <a:solidFill>
                  <a:srgbClr val="000000"/>
                </a:solidFill>
                <a:latin typeface="Arial"/>
              </a:rPr>
              <a:t>Sign In Pag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ecurity purposes, it is important that you sign out when you are finished with your CUNYfirst session rather than closing the web-browser.</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 UPK – Main Menu Structure/Universal Navigation Head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ng through pages in CUNYfirst will enhance the user to navigate comfortably within the applic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ge Navigation inclu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s and Links to Related Pa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uping of logical informati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bs at the top of a page are the same name as the links that  </a:t>
            </a:r>
            <a:r>
              <a:rPr b="0" lang="en-US" sz="1200" spc="-1" strike="noStrike">
                <a:solidFill>
                  <a:srgbClr val="000000"/>
                </a:solidFill>
                <a:latin typeface="Arial"/>
              </a:rPr>
              <a:t>	</a:t>
            </a:r>
            <a:r>
              <a:rPr b="0" lang="en-US" sz="1200" spc="-1" strike="noStrike">
                <a:solidFill>
                  <a:srgbClr val="000000"/>
                </a:solidFill>
                <a:latin typeface="Arial"/>
              </a:rPr>
              <a:t>appear across the botto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a:t>
            </a:r>
            <a:r>
              <a:rPr b="0" lang="en-US" sz="1200" spc="-1" strike="noStrike">
                <a:solidFill>
                  <a:srgbClr val="000000"/>
                </a:solidFill>
                <a:latin typeface="Arial"/>
              </a:rPr>
              <a:t> Either the Tab across the top or the Link across the bottom can be moved to other pages in the compon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 Collapse/Expan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ges are minimized and maximiz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New Windo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ows for new windows to be opened where users can view an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 new dat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ing &amp; Maintaining Favorites gives the user the ability to store frequently used p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 to Favorit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an individual user too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ems added are only visible to the user</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UNCH UPK – Add Items to My Favorites [Create/Update Journal]/Add Items to Favorites [Ledger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ss Favori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My Favorites link from the main menu.</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UNCH UPK – Access My Favori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it Favori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ems listed in My Favorites can be dele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rder in which they appear can be chang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tem name can be changed.</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UNCH UPK – Edit My Favori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   The advantage of adding items to My Favorites is for the user to access frequently used pages.  It is important not to add too many items in My Favorites because the list can become unmanageable.</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ERCISE #3) </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ERCISE #3A)</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ERCISE #3B)</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A202D-E60C-49EF-AC4D-055099160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546E0-1667-42C1-AB45-1A7104E94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7EF69-D404-46FF-BB05-E5D976CEF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D6822-5687-4F53-B5E0-64DB00DE6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FA87B-F2E3-4760-B79E-26785B835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24D29-3D4F-4A24-A8A4-A05597F51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4DD35-A7F9-4B52-B948-93F8A7C19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D3D55-27E3-4835-A2F1-8D599FA83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EF4D7-0128-45E9-B396-2EC6DD097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E64DD-47AE-4B82-9562-5979601DC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29195-E0E2-4A70-9721-0187CEB2D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943A6-303F-4E79-9D34-1FF08FE33B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7D55-E4DF-4CED-B736-245686370F07}"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43D6C-F6BC-41E8-A4FA-E985ACD0E5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8" descr="Cunyfirst powerpoint 3"/>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Cunyfirst powerpoint 3"/>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4" descr="Cuny first powerpoint1"/>
          <p:cNvPicPr/>
          <p:nvPr/>
        </p:nvPicPr>
        <p:blipFill>
          <a:blip r:embed="rId1"/>
          <a:stretch/>
        </p:blipFill>
        <p:spPr>
          <a:xfrm>
            <a:off x="0" y="0"/>
            <a:ext cx="9220320" cy="6934320"/>
          </a:xfrm>
          <a:prstGeom prst="rect">
            <a:avLst/>
          </a:prstGeom>
          <a:ln w="0">
            <a:noFill/>
          </a:ln>
        </p:spPr>
      </p:pic>
      <p:sp>
        <p:nvSpPr>
          <p:cNvPr id="91" name="Text Box 5"/>
          <p:cNvSpPr/>
          <p:nvPr/>
        </p:nvSpPr>
        <p:spPr>
          <a:xfrm>
            <a:off x="3429000" y="2052720"/>
            <a:ext cx="5410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NYfirst Financia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derstanding Search Pages</a:t>
            </a:r>
            <a:endParaRPr b="0" lang="en-US" sz="4000" spc="-1" strike="noStrike">
              <a:solidFill>
                <a:srgbClr val="000000"/>
              </a:solidFill>
              <a:latin typeface="Arial"/>
            </a:endParaRPr>
          </a:p>
        </p:txBody>
      </p:sp>
      <p:sp>
        <p:nvSpPr>
          <p:cNvPr id="109" name="PlaceHolder 2"/>
          <p:cNvSpPr>
            <a:spLocks noGrp="1"/>
          </p:cNvSpPr>
          <p:nvPr>
            <p:ph/>
          </p:nvPr>
        </p:nvSpPr>
        <p:spPr>
          <a:xfrm>
            <a:off x="9907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Search</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single search</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Begins with’ operator</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al Search</a:t>
            </a:r>
            <a:endParaRPr b="0" lang="en-US" sz="28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d Search</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Multiple Search</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d Function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dcards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derstanding Search Pages</a:t>
            </a:r>
            <a:endParaRPr b="0" lang="en-US" sz="4000" spc="-1" strike="noStrike">
              <a:solidFill>
                <a:srgbClr val="000000"/>
              </a:solidFill>
              <a:latin typeface="Arial"/>
            </a:endParaRPr>
          </a:p>
        </p:txBody>
      </p:sp>
      <p:sp>
        <p:nvSpPr>
          <p:cNvPr id="111" name="PlaceHolder 2"/>
          <p:cNvSpPr>
            <a:spLocks noGrp="1"/>
          </p:cNvSpPr>
          <p:nvPr>
            <p:ph/>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d Searche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tly Used Search Criteria</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le across multiple search page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Saved Searches availab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tion to CUNYfirst Financials</a:t>
            </a:r>
            <a:endParaRPr b="0" lang="en-US" sz="4000" spc="-1" strike="noStrike">
              <a:solidFill>
                <a:srgbClr val="000000"/>
              </a:solidFill>
              <a:latin typeface="Arial"/>
            </a:endParaRPr>
          </a:p>
        </p:txBody>
      </p:sp>
      <p:sp>
        <p:nvSpPr>
          <p:cNvPr id="93" name="PlaceHolder 2"/>
          <p:cNvSpPr>
            <a:spLocks noGrp="1"/>
          </p:cNvSpPr>
          <p:nvPr>
            <p:ph/>
          </p:nvPr>
        </p:nvSpPr>
        <p:spPr>
          <a:xfrm>
            <a:off x="990720" y="1600200"/>
            <a:ext cx="77724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ing CUNYfirst Financial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Menu Structure</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ge Naviga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nd Maintaining Favorite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CUNYfirst Search P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990720" y="1600200"/>
            <a:ext cx="77724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based application</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Web browser action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tible with multiple internet browsers; such as Internet Explorer, Mozilla, Firefox, &amp; Safari</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2"/>
          <p:cNvSpPr>
            <a:spLocks noGrp="1"/>
          </p:cNvSpPr>
          <p:nvPr>
            <p:ph type="title"/>
          </p:nvPr>
        </p:nvSpPr>
        <p:spPr>
          <a:xfrm>
            <a:off x="914400" y="685440"/>
            <a:ext cx="76960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essing CUNYfirst Financia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essing CUNYfirst Financials</a:t>
            </a:r>
            <a:endParaRPr b="0" lang="en-US" sz="4000" spc="-1" strike="noStrike">
              <a:solidFill>
                <a:srgbClr val="000000"/>
              </a:solidFill>
              <a:latin typeface="Arial"/>
            </a:endParaRPr>
          </a:p>
        </p:txBody>
      </p:sp>
      <p:sp>
        <p:nvSpPr>
          <p:cNvPr id="97"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ing into CUNYfirst</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ID </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Initial, Last Name</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John Smith = JSMITH</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word Requirement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of 8 characters including</a:t>
            </a:r>
            <a:endParaRPr b="0" lang="en-US" sz="2400" spc="-1" strike="noStrike">
              <a:solidFill>
                <a:srgbClr val="000000"/>
              </a:solidFill>
              <a:latin typeface="Arial"/>
            </a:endParaRPr>
          </a:p>
          <a:p>
            <a:pPr lvl="3" marL="16002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1) non-alpha character (number or special character)</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1) uppercase character</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990720" y="1600200"/>
            <a:ext cx="769608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Menu Navig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Ledger Cen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al Navigation Header</a:t>
            </a:r>
            <a:endParaRPr b="0" lang="en-US" sz="3200" spc="-1" strike="noStrike">
              <a:solidFill>
                <a:srgbClr val="000000"/>
              </a:solidFill>
              <a:latin typeface="Arial"/>
            </a:endParaRPr>
          </a:p>
        </p:txBody>
      </p:sp>
      <p:sp>
        <p:nvSpPr>
          <p:cNvPr id="99" name="PlaceHolder 2"/>
          <p:cNvSpPr>
            <a:spLocks noGrp="1"/>
          </p:cNvSpPr>
          <p:nvPr>
            <p:ph type="title"/>
          </p:nvPr>
        </p:nvSpPr>
        <p:spPr>
          <a:xfrm>
            <a:off x="914040" y="685440"/>
            <a:ext cx="7543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in Menu Structu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u Navigation</a:t>
            </a:r>
            <a:endParaRPr b="0" lang="en-US" sz="4400" spc="-1" strike="noStrike">
              <a:solidFill>
                <a:srgbClr val="000000"/>
              </a:solidFill>
              <a:latin typeface="Arial"/>
            </a:endParaRPr>
          </a:p>
        </p:txBody>
      </p:sp>
      <p:sp>
        <p:nvSpPr>
          <p:cNvPr id="101" name="PlaceHolder 2"/>
          <p:cNvSpPr>
            <a:spLocks noGrp="1"/>
          </p:cNvSpPr>
          <p:nvPr>
            <p:ph/>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Menu Navigation</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erarchical Structure</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der, Sub-Folder, Component, Page</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Navigation – Toolbar, Process, Prompt and Validation Buttons/Links</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board Shortcuts</a:t>
            </a:r>
            <a:endParaRPr b="0" lang="en-US" sz="2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 Center</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One-stop Experience”</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play Primary Categor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in Menu Structure</a:t>
            </a:r>
            <a:endParaRPr b="0" lang="en-US" sz="4000" spc="-1" strike="noStrike">
              <a:solidFill>
                <a:srgbClr val="000000"/>
              </a:solidFill>
              <a:latin typeface="Arial"/>
            </a:endParaRPr>
          </a:p>
        </p:txBody>
      </p:sp>
      <p:sp>
        <p:nvSpPr>
          <p:cNvPr id="103" name="PlaceHolder 2"/>
          <p:cNvSpPr>
            <a:spLocks noGrp="1"/>
          </p:cNvSpPr>
          <p:nvPr>
            <p:ph/>
          </p:nvPr>
        </p:nvSpPr>
        <p:spPr>
          <a:xfrm>
            <a:off x="990720" y="1600200"/>
            <a:ext cx="7696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al Navigation Header</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ains Static through naviga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a:t>
            </a: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list</a:t>
            </a: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o Favorites</a:t>
            </a: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 - 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ge Navigation</a:t>
            </a:r>
            <a:endParaRPr b="0" lang="en-US" sz="4400" spc="-1" strike="noStrike">
              <a:solidFill>
                <a:srgbClr val="000000"/>
              </a:solidFill>
              <a:latin typeface="Arial"/>
            </a:endParaRPr>
          </a:p>
        </p:txBody>
      </p:sp>
      <p:sp>
        <p:nvSpPr>
          <p:cNvPr id="105" name="PlaceHolder 2"/>
          <p:cNvSpPr>
            <a:spLocks noGrp="1"/>
          </p:cNvSpPr>
          <p:nvPr>
            <p:ph/>
          </p:nvPr>
        </p:nvSpPr>
        <p:spPr>
          <a:xfrm>
            <a:off x="9907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s and Links to Related Pag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u Collapse/Expa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New Window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ing &amp; Maintaining Favorites</a:t>
            </a:r>
            <a:endParaRPr b="0" lang="en-US" sz="4000" spc="-1" strike="noStrike">
              <a:solidFill>
                <a:srgbClr val="000000"/>
              </a:solidFill>
              <a:latin typeface="Arial"/>
            </a:endParaRPr>
          </a:p>
        </p:txBody>
      </p:sp>
      <p:sp>
        <p:nvSpPr>
          <p:cNvPr id="107" name="PlaceHolder 2"/>
          <p:cNvSpPr>
            <a:spLocks noGrp="1"/>
          </p:cNvSpPr>
          <p:nvPr>
            <p:ph/>
          </p:nvPr>
        </p:nvSpPr>
        <p:spPr>
          <a:xfrm>
            <a:off x="914400" y="1600200"/>
            <a:ext cx="78487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o Favorit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igate to component to add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s can be renamed when added</a:t>
            </a:r>
            <a:endParaRPr b="0" lang="en-US" sz="24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Favorit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igate to My Favorites to access frequently used item</a:t>
            </a:r>
            <a:endParaRPr b="0" lang="en-US" sz="24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 Favorit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Order of Displa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an It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tem na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16:04:09Z</dcterms:created>
  <dc:creator>Central Office</dc:creator>
  <dc:description/>
  <dc:language>en-US</dc:language>
  <cp:lastModifiedBy>Shanna R</cp:lastModifiedBy>
  <dcterms:modified xsi:type="dcterms:W3CDTF">2008-04-27T00:18:36Z</dcterms:modified>
  <cp:revision>23</cp:revision>
  <dc:subject/>
  <dc:title>Slide 1</dc:title>
</cp:coreProperties>
</file>